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C06-125F-4551-A248-D7B1391B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214-7ABE-4635-8FD7-38992F5B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4E9-BAA1-4399-8812-7068BA8D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24A-B617-40CC-9120-C12F66E4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9C5-B182-4F12-9A59-76C67C67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CA4-0FD0-455A-AC7A-779D468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691-AAD3-4C00-93D3-6D9FDAF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02C-E689-486D-B359-928DFE5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271-0FF7-4935-B783-A275C810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455-730E-4B0F-B468-2AB0521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463-9C42-48F7-98CB-427AED6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F6C-DA1C-44A5-843C-740D888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B2F-A9DE-40E3-886F-51521FBD1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91440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sson 5 How Many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00" y="23760"/>
            <a:ext cx="91152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 I have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I hav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: I hav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龙游戏。每个同学手中拿有一定数量的文具，依次进行问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Follow the tape and read the text 3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三次录音，读三遍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Introduce what things are in your school bag to your friend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向你的朋友介绍你书包里的东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72240" y="4191120"/>
            <a:ext cx="33717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2057400"/>
            <a:ext cx="56386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One book,two book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Three books,f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One,two,three,fou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Five books m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0492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chant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2362320" cy="267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84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743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73392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9436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419720" y="3505320"/>
            <a:ext cx="4495680" cy="2543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5943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sk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A:What’s th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B:It’s a __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pencil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’s fi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的时间记忆桌面上的单词卡片，另一名同学将卡片倒扣在桌子上，并打乱顺序。随机翻一张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do you ha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have fiv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/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467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air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:How many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do you hav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:I have five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/F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070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19520" y="464832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638680" y="4370400"/>
            <a:ext cx="3505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t’s gu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Do you have any penc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How many pencil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______penc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人一组，一个同学拿着铅笔、蜡笔等文具，手背后，另一个同学猜他手中有多少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1:15:25Z</dcterms:created>
  <dc:creator>Administrator</dc:creator>
  <dc:description/>
  <dc:language>en-US</dc:language>
  <cp:lastModifiedBy>Windows 用户</cp:lastModifiedBy>
  <dcterms:modified xsi:type="dcterms:W3CDTF">2017-09-28T11:57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